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CFBF-76DE-4A51-B581-A58DE704E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A596-92C7-42C1-BEBF-8FE13C273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B2B2-0F97-4085-A546-0BDBE182F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2A75-8914-4611-8382-CA28D391F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753C-4E10-4899-8705-2181AC0B9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D01A-A4B7-45E6-97E0-240256CE0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9B37-3F31-4A8B-972A-A6B80CFEC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2026-9F18-40E1-81E4-10D24B53B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2725-9F5C-4EEA-AE4E-715151F1D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B799-B3F0-4A4F-864C-FA284796B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1E93-9C88-4FCC-8921-97210B5A7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1CD0-7C4B-4529-A318-A79F5335F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FB09-C9B3-4501-89B9-12108E9BC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ED9A-88EF-4D48-BC04-C76620598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2575-3BF4-4E57-91A1-684C45DA1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8B76-C68A-4767-B1E8-CBFD49130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D5B0-9CAF-4ABA-8AAE-1F927D113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091D-DE16-44B2-9A48-A823B755D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FB2E-39CC-4F71-B5E3-C28257D52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16A2-C34E-4D19-B15E-1115BFFDA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63CA-AADA-4170-BA8A-AB3242652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DD21-B21A-403E-98D4-ABD044BC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6506-66E0-4C51-9EC0-55928EDE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2098-3969-4F87-AD87-EFD750AF1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C5EA-91C5-4883-A1DD-1CBE7377D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DEFE-278F-4314-93B7-7124662B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EE72-40B7-42DC-A8F0-B033EDD0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0B01-49F3-4F94-94A0-7B7A09A8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709A-B18E-4F5C-A2F6-7026272D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86A8-1658-4676-8A84-CA3C3B53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617D-8900-4AEE-94BE-92DF4EE0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4D37-6996-4B1D-BF61-8B1213EA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5768-5F3D-498B-BBED-94F37A18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7616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B85D-E2DD-4D28-87D9-F62D71C38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5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wilberforce signature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370320" y="3459240"/>
            <a:ext cx="2504880" cy="606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>
            <a:hlinkClick r:id="" action="ppaction://hlinkshowjump?jump=nextslide"/>
          </p:cNvPr>
          <p:cNvSpPr/>
          <p:nvPr/>
        </p:nvSpPr>
        <p:spPr>
          <a:xfrm>
            <a:off x="3360600" y="505476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Religion was very important to William. He wrote a book about religion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6477120" y="6235560"/>
            <a:ext cx="251460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3000" fill="hold"/>
                                        <p:tgtEl>
                                          <p:spTgt spid="9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He did like reading, but there is something else this book can tell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04920" y="3986280"/>
            <a:ext cx="851508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b2a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A campaign is when people talk about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70000" y="4952880"/>
            <a:ext cx="8550000" cy="94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b) A campaign is when people work together to try and achieve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Wilberforce was the leader of a very important campa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629400" y="623880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a9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3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Talking is important but a campaign is more than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629400" y="623556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a9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3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04920" y="3886200"/>
            <a:ext cx="8458200" cy="106884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campaigned to stop people being cruel to anim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04920" y="5257800"/>
            <a:ext cx="845820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William campaign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rcRect l="17100" t="10951" r="17619" b="0"/>
          <a:stretch/>
        </p:blipFill>
        <p:spPr>
          <a:xfrm>
            <a:off x="5334120" y="304920"/>
            <a:ext cx="3504960" cy="339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-828720" y="647856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04920" y="342900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led the campaign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6629400" y="624852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3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04920" y="3429000"/>
            <a:ext cx="85341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did campaign to stop people being cruel to animals, but that is not the main thing he wanted to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3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04920" y="4665600"/>
            <a:ext cx="838188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born in Hu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70000" y="5504040"/>
            <a:ext cx="84168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help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04920" y="3733920"/>
            <a:ext cx="8229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e remember William Wilberforce because he led a long campaign which made slavery s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>
            <a:hlinkClick r:id="rId1" action="ppaction://hlinksldjump"/>
          </p:cNvPr>
          <p:cNvSpPr/>
          <p:nvPr/>
        </p:nvSpPr>
        <p:spPr>
          <a:xfrm>
            <a:off x="0" y="0"/>
            <a:ext cx="8991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57240">
            <a:solidFill>
              <a:srgbClr val="00b2a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orget, always click inside the answer box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wilberforce signature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352680" y="4038480"/>
            <a:ext cx="2505240" cy="606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>
            <a:hlinkClick r:id="" action="ppaction://hlinkshowjump?jump=nextslide"/>
          </p:cNvPr>
          <p:cNvSpPr/>
          <p:nvPr/>
        </p:nvSpPr>
        <p:spPr>
          <a:xfrm>
            <a:off x="3352680" y="47242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3"/>
          <a:stretch/>
        </p:blipFill>
        <p:spPr>
          <a:xfrm rot="1847400">
            <a:off x="1050480" y="2792520"/>
            <a:ext cx="153684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-828720" y="6526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ilberforce was born in Hull but that is not the main reason we remembe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3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>
            <a:hlinkClick r:id="rId2" action="ppaction://hlinksldjump"/>
          </p:cNvPr>
          <p:cNvSpPr/>
          <p:nvPr/>
        </p:nvSpPr>
        <p:spPr>
          <a:xfrm>
            <a:off x="685800" y="518148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Because he was born in Hu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>
            <a:hlinkClick r:id="rId3" action="ppaction://hlinksldjump"/>
          </p:cNvPr>
          <p:cNvSpPr/>
          <p:nvPr/>
        </p:nvSpPr>
        <p:spPr>
          <a:xfrm>
            <a:off x="685800" y="419112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a) Because he was born in this h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4"/>
          <p:cNvSpPr/>
          <p:nvPr/>
        </p:nvSpPr>
        <p:spPr>
          <a:xfrm>
            <a:off x="-900000" y="65041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09480" y="3962520"/>
            <a:ext cx="80773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here over 200 years ago. He lived here until he was nine years 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/>
                                        <p:tgtEl>
                                          <p:spTgt spid="6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-828720" y="64897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09480" y="3962520"/>
            <a:ext cx="807732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in Hull but there is another reas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>
            <a:hlinkClick r:id="rId2" action="ppaction://hlinksldjump"/>
          </p:cNvPr>
          <p:cNvSpPr/>
          <p:nvPr/>
        </p:nvSpPr>
        <p:spPr>
          <a:xfrm>
            <a:off x="6781680" y="6248520"/>
            <a:ext cx="221004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>
            <a:hlinkClick r:id="rId1" action="ppaction://hlinksldjump"/>
          </p:cNvPr>
          <p:cNvSpPr/>
          <p:nvPr/>
        </p:nvSpPr>
        <p:spPr>
          <a:xfrm>
            <a:off x="304920" y="4525920"/>
            <a:ext cx="84582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good at giving speech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>
            <a:hlinkClick r:id="rId2" action="ppaction://hlinksldjump"/>
          </p:cNvPr>
          <p:cNvSpPr/>
          <p:nvPr/>
        </p:nvSpPr>
        <p:spPr>
          <a:xfrm>
            <a:off x="345960" y="5334120"/>
            <a:ext cx="841716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wanted to help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ww1"/>
          <p:cNvPicPr/>
          <p:nvPr/>
        </p:nvPicPr>
        <p:blipFill>
          <a:blip r:embed="rId3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thought he could help lots of people if he was a Member of Parlia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3000" fill="hold"/>
                                        <p:tgtEl>
                                          <p:spTgt spid="8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as very good at giving speeches, but that is not the rea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>
            <a:hlinkClick r:id="rId2" action="ppaction://hlinksldjump"/>
          </p:cNvPr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>
            <a:hlinkClick r:id="rId1" action="ppaction://hlinksldjump"/>
          </p:cNvPr>
          <p:cNvSpPr/>
          <p:nvPr/>
        </p:nvSpPr>
        <p:spPr>
          <a:xfrm>
            <a:off x="304920" y="4525920"/>
            <a:ext cx="822960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66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It tells us he liked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>
            <a:hlinkClick r:id="rId2" action="ppaction://hlinksldjump"/>
          </p:cNvPr>
          <p:cNvSpPr/>
          <p:nvPr/>
        </p:nvSpPr>
        <p:spPr>
          <a:xfrm>
            <a:off x="270000" y="5450040"/>
            <a:ext cx="826452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b) It tells us </a:t>
            </a:r>
            <a:r>
              <a:rPr b="0" lang="en-US" sz="3200" spc="-1" strike="noStrike">
                <a:solidFill>
                  <a:srgbClr val="ff6666"/>
                </a:solidFill>
                <a:latin typeface="ヒラギノ角ゴ Pro W3"/>
              </a:rPr>
              <a:t>r</a:t>
            </a: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eligion was important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Wilberforce Family Bible2"/>
          <p:cNvPicPr/>
          <p:nvPr/>
        </p:nvPicPr>
        <p:blipFill>
          <a:blip r:embed="rId3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20:10:33Z</dcterms:created>
  <dc:creator>Nick Cass</dc:creator>
  <dc:description/>
  <dc:language>en-US</dc:language>
  <cp:lastModifiedBy>Bartley, Izzy</cp:lastModifiedBy>
  <dcterms:modified xsi:type="dcterms:W3CDTF">2018-03-28T10:14:20Z</dcterms:modified>
  <cp:revision>22</cp:revision>
  <dc:subject/>
  <dc:title>Why Do We Remember William Wilberforce?</dc:title>
</cp:coreProperties>
</file>