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37F-9D03-4DE4-8233-F3EB7FD5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7D75-C8F4-41FB-8649-34A5391C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FE3-7609-49BA-9775-D21AC682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F23-90E1-465E-933C-188265D8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4A39-E3AF-4DA6-84B5-9D1CF58C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DC87-833A-40F5-B9F1-6674E5E4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9F6-9507-46DB-AF9B-5F8ED430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97FB-F5A5-41B2-A9BE-DFBC7902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E91-DEC6-43CB-8CC5-04E9784D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BADC-37EF-4E60-98A1-05F4705D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385-B933-4EC0-8B77-23FE2E1A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C72F-9E45-44E5-A70C-8156DA34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FBC4-B41D-445A-982B-F071F6709CC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mylearning.org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image" Target="../media/image4.jpeg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image" Target="../media/image6.jpeg"/><Relationship Id="rId9" Type="http://schemas.openxmlformats.org/officeDocument/2006/relationships/slide" Target=""/><Relationship Id="rId10" Type="http://schemas.openxmlformats.org/officeDocument/2006/relationships/image" Target="../media/image7.jpeg"/><Relationship Id="rId11" Type="http://schemas.openxmlformats.org/officeDocument/2006/relationships/slide" Target=""/><Relationship Id="rId12" Type="http://schemas.openxmlformats.org/officeDocument/2006/relationships/image" Target="../media/image8.jpeg"/><Relationship Id="rId13" Type="http://schemas.openxmlformats.org/officeDocument/2006/relationships/slide" Target=""/><Relationship Id="rId14" Type="http://schemas.openxmlformats.org/officeDocument/2006/relationships/image" Target="../media/image9.jpeg"/><Relationship Id="rId15" Type="http://schemas.openxmlformats.org/officeDocument/2006/relationships/slide" Target=""/><Relationship Id="rId16" Type="http://schemas.openxmlformats.org/officeDocument/2006/relationships/image" Target="../media/image10.jpeg"/><Relationship Id="rId17" Type="http://schemas.openxmlformats.org/officeDocument/2006/relationships/slide" Target=""/><Relationship Id="rId18" Type="http://schemas.openxmlformats.org/officeDocument/2006/relationships/image" Target="../media/image11.jpeg"/><Relationship Id="rId19" Type="http://schemas.openxmlformats.org/officeDocument/2006/relationships/slide" Target=""/><Relationship Id="rId20" Type="http://schemas.openxmlformats.org/officeDocument/2006/relationships/image" Target="../media/image12.jpeg"/><Relationship Id="rId21" Type="http://schemas.openxmlformats.org/officeDocument/2006/relationships/slide" Target=""/><Relationship Id="rId22" Type="http://schemas.openxmlformats.org/officeDocument/2006/relationships/image" Target="../media/image13.jpeg"/><Relationship Id="rId23" Type="http://schemas.openxmlformats.org/officeDocument/2006/relationships/hyperlink" Target="http://www.mylearning.org/" TargetMode="External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7.jpeg"/><Relationship Id="rId5" Type="http://schemas.openxmlformats.org/officeDocument/2006/relationships/image" Target="../media/image6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" Target=""/><Relationship Id="rId15" Type="http://schemas.openxmlformats.org/officeDocument/2006/relationships/hyperlink" Target="http://www.mylearning.org/" TargetMode="Externa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hyperlink" Target="http://www.mylearning.org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hyperlink" Target="http://www.mylearning.org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"/><Relationship Id="rId3" Type="http://schemas.openxmlformats.org/officeDocument/2006/relationships/hyperlink" Target="http://www.mylearning.org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"/><Relationship Id="rId3" Type="http://schemas.openxmlformats.org/officeDocument/2006/relationships/hyperlink" Target="http://www.mylearning.org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"/><Relationship Id="rId3" Type="http://schemas.openxmlformats.org/officeDocument/2006/relationships/hyperlink" Target="http://www.mylearning.org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175248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 43 AD the Romans arrived in Britain. For nearly 400 years the area of England that is now Grantham was part of the Roman Empi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5627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ften people were buried with grave goods or belongings such as jewellery, weapons or potte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19320" y="457200"/>
            <a:ext cx="6858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9900cc"/>
                </a:solidFill>
                <a:latin typeface="BankGothic Md BT"/>
              </a:rPr>
              <a:t>Roman Grantham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9900cc"/>
              </a:solidFill>
              <a:latin typeface="BankGothic Md BT"/>
              <a:ea typeface="BankGothic Md BT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41148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en they died, these people were either buried or cremated (their bodies burnt and the ashes often placed in a large pot or ur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1496880" cy="29527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467480" y="2743200"/>
            <a:ext cx="1281240" cy="302904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2362320" y="27432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people who lived in Roman Grantham adopted Roman styles of dressing, wore Roman style jewellery and used Roman style pots, tools and mon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630864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3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5334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This is a pottery oil la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4394160" cy="405144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3831120" y="30492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www.mylearning.org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5029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This is an iron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562360" cy="313704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3754800" y="38088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www.mylearning.org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4800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  <a:ea typeface="Arial"/>
              </a:rPr>
              <a:t>This is a piece of highly decorated pottery called Samian 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  <a:ea typeface="Arial"/>
              </a:rPr>
              <a:t>It is part of a bowl decorated with a hunting sce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4648320" cy="313344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3678480" y="45720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www.mylearning.org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4800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  <a:ea typeface="Arial"/>
              </a:rPr>
              <a:t>This is an iron spi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715000" cy="259704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678480" y="53352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www.mylearning.org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195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41911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This is an iron knife blade. The antler handle, another of the artefacts found, is the knife blade’s hand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400800" cy="223380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3754800" y="53352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www.mylearning.org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8600" y="1066680"/>
            <a:ext cx="1066680" cy="4267440"/>
          </a:xfrm>
          <a:prstGeom prst="rect">
            <a:avLst/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14156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cc"/>
                </a:solidFill>
                <a:latin typeface="BankGothic Md BT"/>
              </a:rPr>
              <a:t>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1066680"/>
            <a:ext cx="1066680" cy="4267440"/>
          </a:xfrm>
          <a:prstGeom prst="rect">
            <a:avLst/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91120" y="114156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cc"/>
                </a:solidFill>
                <a:latin typeface="BankGothic Md BT"/>
              </a:rPr>
              <a:t>EI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1066680"/>
            <a:ext cx="1066680" cy="4267440"/>
          </a:xfrm>
          <a:prstGeom prst="rect">
            <a:avLst/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24680" y="113364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cc"/>
                </a:solidFill>
                <a:latin typeface="BankGothic Md BT"/>
              </a:rPr>
              <a:t>WO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228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id you work out which artefacts would have been with a man, which with a woman, and which might have been buried with either…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0120" y="5715000"/>
            <a:ext cx="129528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BankGothic Md BT"/>
              </a:rPr>
              <a:t>The</a:t>
            </a:r>
            <a:r>
              <a:rPr b="1" lang="en-GB" sz="2400" spc="-1" strike="noStrike">
                <a:solidFill>
                  <a:srgbClr val="663300"/>
                </a:solidFill>
                <a:latin typeface="BankGothic Md BT"/>
              </a:rPr>
              <a:t> </a:t>
            </a:r>
            <a:r>
              <a:rPr b="1" lang="en-GB" sz="2400" spc="-1" strike="noStrike">
                <a:solidFill>
                  <a:srgbClr val="9900cc"/>
                </a:solidFill>
                <a:latin typeface="BankGothic Md BT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563868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en archaeologists excavate (dig up) a grave they will always look at the sorts of artefacts buried with the skeleton to help them work out whether it is a male or female bu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638680" y="1066680"/>
            <a:ext cx="1805040" cy="426744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2163600" cy="426744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04920" y="1600200"/>
            <a:ext cx="914400" cy="61596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267080" y="2590920"/>
            <a:ext cx="700200" cy="76176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191120" y="1676520"/>
            <a:ext cx="914400" cy="5158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304920" y="2514600"/>
            <a:ext cx="914400" cy="61596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8001000" y="1600200"/>
            <a:ext cx="838080" cy="773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8121600" y="3429000"/>
            <a:ext cx="565200" cy="160020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4191120" y="3657600"/>
            <a:ext cx="838080" cy="7714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>
            <a:off x="7924680" y="2590920"/>
            <a:ext cx="908280" cy="5428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11"/>
          <a:stretch/>
        </p:blipFill>
        <p:spPr>
          <a:xfrm>
            <a:off x="304920" y="3505320"/>
            <a:ext cx="838080" cy="41904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12"/>
          <a:stretch/>
        </p:blipFill>
        <p:spPr>
          <a:xfrm>
            <a:off x="304920" y="4495680"/>
            <a:ext cx="914400" cy="3193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468360" y="658332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www.mylearning.org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343400" y="24382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chaeologists in Grantham have found the graves of two Roman people – a man and a wom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40600" y="4419720"/>
            <a:ext cx="20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00cc"/>
                </a:solidFill>
                <a:latin typeface="Comic Sans MS"/>
              </a:rPr>
              <a:t>OH N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51814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archaeologists have mixed all these grave goods up and they can’t remember which object or artefact belonged to which person – do you think you can hel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 flipH="1">
            <a:off x="456840" y="1447920"/>
            <a:ext cx="3809880" cy="3360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029200" y="144792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9900cc"/>
                </a:solidFill>
                <a:latin typeface="Comic Sans MS"/>
              </a:rPr>
              <a:t>Loo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358128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y were each buried with their belongings or grave g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19320" y="457200"/>
            <a:ext cx="6858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9900cc"/>
                </a:solidFill>
                <a:latin typeface="BankGothic Md BT"/>
              </a:rPr>
              <a:t>Roman Grantham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9900cc"/>
              </a:solidFill>
              <a:latin typeface="BankGothic Md BT"/>
              <a:ea typeface="BankGothic Md BT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30864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66880" y="685800"/>
            <a:ext cx="40388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t the bottom of this slide are the artefacts the archaeologists f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ich person you think they belonged t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n the next slide you can drag and drop the artefacts to the person you think they were buried wi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lick </a:t>
            </a:r>
            <a:r>
              <a:rPr b="1" lang="en-GB" sz="1800" spc="-1" strike="noStrike">
                <a:solidFill>
                  <a:srgbClr val="9900cc"/>
                </a:solidFill>
                <a:latin typeface="Comic Sans MS"/>
              </a:rPr>
              <a:t>START</a:t>
            </a:r>
            <a:r>
              <a:rPr b="1" lang="en-GB" sz="18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en you are read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502920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you don’t know what an object is click on it to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out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3886200" y="3886200"/>
            <a:ext cx="1447920" cy="398880"/>
          </a:xfrm>
          <a:prstGeom prst="rect">
            <a:avLst/>
          </a:prstGeom>
          <a:solidFill>
            <a:srgbClr val="ccffcc"/>
          </a:solidFill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1815840" cy="3581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86600" y="838080"/>
            <a:ext cx="1482840" cy="35053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6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4724280"/>
            <a:ext cx="1143000" cy="71136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6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5715000"/>
            <a:ext cx="700200" cy="7621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6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0880" y="5715000"/>
            <a:ext cx="1219320" cy="68724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6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52480" y="5715000"/>
            <a:ext cx="1067040" cy="719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70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676520" y="4724280"/>
            <a:ext cx="838080" cy="773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71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324480" y="4724280"/>
            <a:ext cx="565200" cy="160020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72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048120" y="5715000"/>
            <a:ext cx="838080" cy="7714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73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4876920" y="5715000"/>
            <a:ext cx="1288800" cy="7714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74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4648320" y="4724280"/>
            <a:ext cx="1523880" cy="7621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75" name="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2666880" y="4724280"/>
            <a:ext cx="1828800" cy="638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539640" y="658332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23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304920"/>
            <a:ext cx="1066680" cy="4114800"/>
          </a:xfrm>
          <a:prstGeom prst="rect">
            <a:avLst/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7944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cc"/>
                </a:solidFill>
                <a:latin typeface="BankGothic Md BT"/>
              </a:rPr>
              <a:t>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914400"/>
            <a:ext cx="1066680" cy="3505320"/>
          </a:xfrm>
          <a:prstGeom prst="rect">
            <a:avLst/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9748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cc"/>
                </a:solidFill>
                <a:latin typeface="BankGothic Md BT"/>
              </a:rPr>
              <a:t>EI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848720" y="304920"/>
            <a:ext cx="1066680" cy="4114800"/>
          </a:xfrm>
          <a:prstGeom prst="rect">
            <a:avLst/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371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00cc"/>
                </a:solidFill>
                <a:latin typeface="BankGothic Md BT"/>
              </a:rPr>
              <a:t>WO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7543800" y="4800600"/>
            <a:ext cx="106668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52280"/>
            <a:ext cx="61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lick once on the artefact, then move it to a box, click again to drop. If you don’t know what the artefact is go BACK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52480" y="914400"/>
            <a:ext cx="1816200" cy="35053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523880" y="4800600"/>
            <a:ext cx="838440" cy="773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600200" y="5867280"/>
            <a:ext cx="1066680" cy="719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28600" y="5867280"/>
            <a:ext cx="1219320" cy="68760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228600" y="4800600"/>
            <a:ext cx="1143000" cy="71136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5791320" y="914400"/>
            <a:ext cx="1482480" cy="35053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3962520" y="5791320"/>
            <a:ext cx="699840" cy="76176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6400800" y="4800600"/>
            <a:ext cx="565200" cy="160020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2895480" y="5791320"/>
            <a:ext cx="838440" cy="7714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4876920" y="5791320"/>
            <a:ext cx="1288800" cy="7714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4648320" y="4800600"/>
            <a:ext cx="1523880" cy="76212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2590920" y="4800600"/>
            <a:ext cx="1828800" cy="638280"/>
          </a:xfrm>
          <a:prstGeom prst="rect">
            <a:avLst/>
          </a:prstGeom>
          <a:ln w="38160">
            <a:solidFill>
              <a:srgbClr val="9900cc"/>
            </a:solidFill>
            <a:miter/>
          </a:ln>
        </p:spPr>
      </p:pic>
      <p:sp>
        <p:nvSpPr>
          <p:cNvPr id="97" name="">
            <a:hlinkClick r:id="rId14" action="ppaction://hlinksldjump"/>
          </p:cNvPr>
          <p:cNvSpPr/>
          <p:nvPr/>
        </p:nvSpPr>
        <p:spPr>
          <a:xfrm>
            <a:off x="7162920" y="5334120"/>
            <a:ext cx="1752480" cy="82404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00cc"/>
                </a:solidFill>
                <a:latin typeface="BankGothic Md BT"/>
              </a:rPr>
              <a:t>Want to check if you are right?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658332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15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380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502920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This is a knife handle made of antler bone. It is the handle of the knife blade, which is another of the artefacts f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5029200" cy="312912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658332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3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495288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  <a:ea typeface="Arial"/>
              </a:rPr>
              <a:t>This is a Roman coin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3360600" cy="365760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3678480" y="30492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630864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3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518148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  <a:ea typeface="Arial"/>
              </a:rPr>
              <a:t>This is a Roman ring – quite small in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4191120" cy="386568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526200" y="30492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630864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3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410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  <a:ea typeface="Arial"/>
              </a:rPr>
              <a:t>This is an iron lad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876920" cy="291924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3602520" y="45720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630864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3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11012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4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14479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This is a small glass bottle or phial. It may have contained perf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1452600" cy="411480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4135680" y="38088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BankGothic Md BT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7772400" y="6095880"/>
            <a:ext cx="9907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cc"/>
                </a:solidFill>
                <a:latin typeface="BankGothic Md BT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6308640"/>
            <a:ext cx="7559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Stoneage"/>
                <a:hlinkClick r:id="rId3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Stoneage"/>
              </a:rPr>
              <a:t> © Lincolnshire Historic Environm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43:28Z</dcterms:created>
  <dc:creator>Vikki Pearson for Lincolnshire County Council</dc:creator>
  <dc:description>Contains drag and drop macro created by Hans Werner Hofman / Ute Simon</dc:description>
  <cp:keywords>Roman Grantham with drag and drop macro</cp:keywords>
  <dc:language>en-US</dc:language>
  <cp:lastModifiedBy>Alison Hughes</cp:lastModifiedBy>
  <dcterms:modified xsi:type="dcterms:W3CDTF">2013-01-30T11:16:03Z</dcterms:modified>
  <cp:revision>185</cp:revision>
  <dc:subject/>
  <dc:title>Roman Grantham Drag and Drop</dc:title>
</cp:coreProperties>
</file>