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781-669F-4678-8EC1-9E414640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444-E90A-4563-BFCD-17AB35EA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63C-F1AF-415A-A06E-23884D06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FBA-0BF3-4AA7-8475-BC905BBD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9016-5834-47C9-AB9D-1FDADF82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389-DD33-4484-9095-9D86FA2D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01B-514B-45DE-8D61-B8DAAA93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C13-5DB1-4AD2-837C-2977452E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157-0434-4773-B6A9-ACDF932B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4663-E403-44C1-84F0-6932C70F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82FD-9067-4C7D-B38C-2AFD2323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7E2-5103-4999-B4AA-4247ECFB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5D3A-E88A-4D75-92A2-DC3301D5E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learning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Raid Precautions Hand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0000" cy="539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4600" y="419040"/>
            <a:ext cx="82548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87360"/>
            <a:ext cx="8064720" cy="608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6583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1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4600" y="412920"/>
            <a:ext cx="8254800" cy="603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394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6880" y="317520"/>
            <a:ext cx="7950240" cy="622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6540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645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7080"/>
            <a:ext cx="8382240" cy="66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14520" y="82872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1:46:43Z</dcterms:created>
  <dc:creator>Alison Hughes</dc:creator>
  <dc:description/>
  <dc:language>en-US</dc:language>
  <cp:lastModifiedBy>Alison Hughes</cp:lastModifiedBy>
  <dcterms:modified xsi:type="dcterms:W3CDTF">2012-05-31T14:02:48Z</dcterms:modified>
  <cp:revision>5</cp:revision>
  <dc:subject/>
  <dc:title>Air Raid Precautions Handbook</dc:title>
</cp:coreProperties>
</file>