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4C4-490B-4D6A-B154-ADF94EEB0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C1D3-B080-4850-A32D-A81C697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0C1-FA48-4D09-8E68-B97304D8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264-EB2F-4BF4-8C9A-5FB59D14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06E-60AE-4946-982E-25D0A0B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4240-40E9-41ED-8B72-79C3E92A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E60-F48E-4E98-8DF5-DB36A82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7DDE-6881-4ADD-9528-59AF0B1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F80-EB73-47A8-9596-CE8AF563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22C2-8A98-4BE0-A2FD-DB94DA10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576-B552-4609-82D6-1B1DB0B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0DE-8035-4244-807B-EE093851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A5A2-A5FB-44D5-A725-E884FCC5B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learning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mylearning.org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r Raid Precautions Hand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7560000" cy="5399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4600" y="419040"/>
            <a:ext cx="8254800" cy="601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9640" y="387360"/>
            <a:ext cx="8064720" cy="6083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26920" y="6583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152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4600" y="412920"/>
            <a:ext cx="8254800" cy="6032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63943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96880" y="317520"/>
            <a:ext cx="7950240" cy="62229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4600" y="158760"/>
            <a:ext cx="8254800" cy="6540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3040"/>
            <a:ext cx="8382240" cy="6451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mylearning.or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27080"/>
            <a:ext cx="8382240" cy="660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3822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14520" y="828720"/>
            <a:ext cx="6114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ource provided by www.mylearning.or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Wollaston Muse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1T11:46:43Z</dcterms:created>
  <dc:creator>Alison Hughes</dc:creator>
  <dc:description/>
  <dc:language>en-US</dc:language>
  <cp:lastModifiedBy>Alison Hughes</cp:lastModifiedBy>
  <dcterms:modified xsi:type="dcterms:W3CDTF">2012-05-31T14:02:48Z</dcterms:modified>
  <cp:revision>5</cp:revision>
  <dc:subject/>
  <dc:title>Air Raid Precautions Handbook</dc:title>
</cp:coreProperties>
</file>