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52FC-F45D-4301-9F02-774874E13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8E17-3A81-4688-81BF-179C108A8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6DF5-F47D-44AD-9760-B23BF026E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F290-344A-4BA6-9531-A30C385F9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6BEA-A774-46F9-AE32-BA41D69E0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74A5-05BE-41C8-8258-27146C835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10BB-2F44-4DBC-AC22-BE9A21485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FCAD-F156-45A4-9B30-D8BC1CEC1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EA54-2702-438D-86AC-AF83F8938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12FD-CB85-489B-B095-5883EA910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ED11-9A11-4772-ADF1-B566DC5E6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C7F4-6DDF-4CF0-AA96-83FA24A52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B34B-3903-4F02-85B9-B4E7DC0B3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1901-2588-45F0-9794-BE22D9110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768C-7096-4C4C-8862-2856B83C5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837D-A5E7-415B-ADFA-7A44F0B52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E016-B466-4007-94C4-172A07046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DD06-5D74-4406-8BAF-15A0F981E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8517-055C-4E0B-8B56-EBDA79EFB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D59C-3158-4376-B0D7-EB06AD20B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03C8-A707-481B-9549-A32897BC0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8325-DA86-4E2D-8CB7-80709A5D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D1C7-4BF3-4DCF-98D3-6100CEF5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3016-F08D-48EE-8AA1-3ADC0EC19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132C-AFD2-4877-8F1A-F61F9DA1C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5CC0-DF71-4758-914E-BF23D3D8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C2A4-2816-4BEC-8AB7-B334C631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1943-A2ED-4F6B-A014-C706FF0D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3CDE-580D-4790-9203-71C2F25E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8AB2-04A7-4703-A53B-841E429F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C55D-0017-4169-9545-FA6D094D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49E0-556E-4C52-AD4C-5A4C34F3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0E20-A382-4FA9-B6BF-1DBFA2EC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060E-788E-44A2-BDB7-3E1B0DB75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5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wilberforce signature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370320" y="3459240"/>
            <a:ext cx="2504880" cy="606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>
            <a:hlinkClick r:id="" action="ppaction://hlinkshowjump?jump=nextslide"/>
          </p:cNvPr>
          <p:cNvSpPr/>
          <p:nvPr/>
        </p:nvSpPr>
        <p:spPr>
          <a:xfrm>
            <a:off x="3360600" y="50547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Religion was very important to William. He wrote a book about religion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6477120" y="6235560"/>
            <a:ext cx="251460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3000" fill="hold"/>
                                        <p:tgtEl>
                                          <p:spTgt spid="9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He did like reading, but there is something else this book can tell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04920" y="3986280"/>
            <a:ext cx="851508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b2a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A campaign is when people talk about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70000" y="4952880"/>
            <a:ext cx="855000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b) A campaign is when people work together to try and achieve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Wilberforce was the leader of a very important campa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629400" y="623880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a9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3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Talking is important but a campaign is more than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629400" y="623556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a9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3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04920" y="3886200"/>
            <a:ext cx="8458200" cy="106884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campaigned to stop people being cruel to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5257800"/>
            <a:ext cx="845820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William campaign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17100" t="10951" r="17619" b="0"/>
          <a:stretch/>
        </p:blipFill>
        <p:spPr>
          <a:xfrm>
            <a:off x="5334120" y="304920"/>
            <a:ext cx="3504960" cy="33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-828720" y="647856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04920" y="34290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led the campaign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629400" y="624852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3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920" y="3429000"/>
            <a:ext cx="8534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did campaign to stop people being cruel to animals, but that is not the main thing he wanted to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04920" y="4665600"/>
            <a:ext cx="838188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born in Hu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70000" y="5504040"/>
            <a:ext cx="84168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help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04920" y="373392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e remember William Wilberforce because he led a long campaign which made slavery s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>
            <a:hlinkClick r:id="rId1" action="ppaction://hlinksldjump"/>
          </p:cNvPr>
          <p:cNvSpPr/>
          <p:nvPr/>
        </p:nvSpPr>
        <p:spPr>
          <a:xfrm>
            <a:off x="0" y="0"/>
            <a:ext cx="8991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57240">
            <a:solidFill>
              <a:srgbClr val="00b2a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orget, always click inside the answer box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wilberforce signature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352680" y="4038480"/>
            <a:ext cx="2505240" cy="606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>
            <a:hlinkClick r:id="" action="ppaction://hlinkshowjump?jump=nextslide"/>
          </p:cNvPr>
          <p:cNvSpPr/>
          <p:nvPr/>
        </p:nvSpPr>
        <p:spPr>
          <a:xfrm>
            <a:off x="3352680" y="47242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3"/>
          <a:stretch/>
        </p:blipFill>
        <p:spPr>
          <a:xfrm rot="1847400">
            <a:off x="1050480" y="2792520"/>
            <a:ext cx="153684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-828720" y="6526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ilberforce was born in Hull but that is not the main reason we remembe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3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>
            <a:hlinkClick r:id="rId2" action="ppaction://hlinksldjump"/>
          </p:cNvPr>
          <p:cNvSpPr/>
          <p:nvPr/>
        </p:nvSpPr>
        <p:spPr>
          <a:xfrm>
            <a:off x="685800" y="518148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Because he was born in Hu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>
            <a:hlinkClick r:id="rId3" action="ppaction://hlinksldjump"/>
          </p:cNvPr>
          <p:cNvSpPr/>
          <p:nvPr/>
        </p:nvSpPr>
        <p:spPr>
          <a:xfrm>
            <a:off x="685800" y="419112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a) Because he was born in this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-900000" y="65041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3962520"/>
            <a:ext cx="80773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here over 200 years ago. He lived here until he was nine years 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-828720" y="64897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09480" y="3962520"/>
            <a:ext cx="807732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in Hull but there is another reas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>
            <a:hlinkClick r:id="rId2" action="ppaction://hlinksldjump"/>
          </p:cNvPr>
          <p:cNvSpPr/>
          <p:nvPr/>
        </p:nvSpPr>
        <p:spPr>
          <a:xfrm>
            <a:off x="6781680" y="6248520"/>
            <a:ext cx="221004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>
            <a:hlinkClick r:id="rId1" action="ppaction://hlinksldjump"/>
          </p:cNvPr>
          <p:cNvSpPr/>
          <p:nvPr/>
        </p:nvSpPr>
        <p:spPr>
          <a:xfrm>
            <a:off x="304920" y="4525920"/>
            <a:ext cx="84582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good at giving speec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>
            <a:hlinkClick r:id="rId2" action="ppaction://hlinksldjump"/>
          </p:cNvPr>
          <p:cNvSpPr/>
          <p:nvPr/>
        </p:nvSpPr>
        <p:spPr>
          <a:xfrm>
            <a:off x="345960" y="5334120"/>
            <a:ext cx="841716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wanted to help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ww1"/>
          <p:cNvPicPr/>
          <p:nvPr/>
        </p:nvPicPr>
        <p:blipFill>
          <a:blip r:embed="rId3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thought he could help lots of people if he was a Member of Parlia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3000" fill="hold"/>
                                        <p:tgtEl>
                                          <p:spTgt spid="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as very good at giving speeches, but that is not the r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>
            <a:hlinkClick r:id="rId2" action="ppaction://hlinksldjump"/>
          </p:cNvPr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>
            <a:hlinkClick r:id="rId1" action="ppaction://hlinksldjump"/>
          </p:cNvPr>
          <p:cNvSpPr/>
          <p:nvPr/>
        </p:nvSpPr>
        <p:spPr>
          <a:xfrm>
            <a:off x="304920" y="4525920"/>
            <a:ext cx="822960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66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It tells us he liked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>
            <a:hlinkClick r:id="rId2" action="ppaction://hlinksldjump"/>
          </p:cNvPr>
          <p:cNvSpPr/>
          <p:nvPr/>
        </p:nvSpPr>
        <p:spPr>
          <a:xfrm>
            <a:off x="270000" y="5450040"/>
            <a:ext cx="826452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b) It tells us </a:t>
            </a:r>
            <a:r>
              <a:rPr b="0" lang="en-US" sz="3200" spc="-1" strike="noStrike">
                <a:solidFill>
                  <a:srgbClr val="ff6666"/>
                </a:solidFill>
                <a:latin typeface="ヒラギノ角ゴ Pro W3"/>
              </a:rPr>
              <a:t>r</a:t>
            </a: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eligion was important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Wilberforce Family Bible2"/>
          <p:cNvPicPr/>
          <p:nvPr/>
        </p:nvPicPr>
        <p:blipFill>
          <a:blip r:embed="rId3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20:10:33Z</dcterms:created>
  <dc:creator>Nick Cass</dc:creator>
  <dc:description/>
  <dc:language>en-US</dc:language>
  <cp:lastModifiedBy>Bartley, Izzy</cp:lastModifiedBy>
  <dcterms:modified xsi:type="dcterms:W3CDTF">2018-03-28T10:14:20Z</dcterms:modified>
  <cp:revision>22</cp:revision>
  <dc:subject/>
  <dc:title>Why Do We Remember William Wilberforce?</dc:title>
</cp:coreProperties>
</file>