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5CD9-8D2C-4F73-B6E0-4A4AB0DD1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7C50-9006-434C-AA68-BDD5620D3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683E-D72D-4C99-ADF3-9ADE03877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A31E-F101-4950-98B6-AA1B5CDF9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4606-37A2-493E-95F7-A5325F8C2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953F-FCEB-4EA3-99A5-36F3EE87F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B0C9-86E2-471A-A651-061B02AAC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5A78-9A72-4AC5-B683-44542F797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A1B9-60F4-4974-BFA6-0D605A2D3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7CBA-79A9-4950-BB90-4E10587F3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8258-B8A3-498D-AE55-FDF389976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8FB2-511B-4EB0-822B-4A90A616A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C0B8-DA8A-498E-A6B5-B0278D660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A717-0437-4782-A96F-0BBE48CE8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D6B9-976D-4E18-A796-5A0B42283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B94C-BBD3-41B9-B354-B29A32865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4E78-1DE1-4E7E-B4D6-E93C77C17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BEAF-3B43-49C7-9C5A-1959A8C3E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42E4-D02D-425A-B2E0-C00DCE0E3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E849-3D78-4BF1-BCA5-5920A3A16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42FF-8E35-4D94-BDAE-5F85FEE28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22AD-0160-444B-A36A-CDDE73686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9FBC-40BC-47C0-A5B9-FED68DA0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9712-0ACF-45DC-BF44-DCC37E0A9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F386-A611-449D-90C2-13740F11D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26B0-1A14-440E-89D2-2EE11969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4F1E-F3AD-4D6C-A190-02D7AAB6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8888-B0C4-4244-8CAC-87DA2214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2F12-F9AC-4348-9234-DE2587C5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E059-501C-4C36-AE0E-2E12A58A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8668-6729-4957-9D76-D0D6958F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4A33-4314-4534-9662-5615C8A2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7202-2BC2-41B0-933F-63741A0B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1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67616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A9BE-29EE-4D21-87BA-99434EB38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0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5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wilberforce signature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370320" y="3459240"/>
            <a:ext cx="2504880" cy="6062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>
            <a:hlinkClick r:id="" action="ppaction://hlinkshowjump?jump=nextslide"/>
          </p:cNvPr>
          <p:cNvSpPr/>
          <p:nvPr/>
        </p:nvSpPr>
        <p:spPr>
          <a:xfrm>
            <a:off x="3360600" y="505476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Religion was very important to William. He wrote a book about religion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6477120" y="6235560"/>
            <a:ext cx="251460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3000" fill="hold"/>
                                        <p:tgtEl>
                                          <p:spTgt spid="9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He did like reading, but there is something else this book can tell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04920" y="3986280"/>
            <a:ext cx="851508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b2a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A campaign is when people talk about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70000" y="4952880"/>
            <a:ext cx="8550000" cy="94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b) A campaign is when people work together to try and achieve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Wilberforce was the leader of a very important campa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629400" y="623880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a9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3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Talking is important but a campaign is more than t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629400" y="623556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a9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3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04920" y="3886200"/>
            <a:ext cx="8458200" cy="106884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campaigned to stop people being cruel to anim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04920" y="5257800"/>
            <a:ext cx="845820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William campaign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rcRect l="17100" t="10951" r="17619" b="0"/>
          <a:stretch/>
        </p:blipFill>
        <p:spPr>
          <a:xfrm>
            <a:off x="5334120" y="304920"/>
            <a:ext cx="3504960" cy="339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-828720" y="647856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04920" y="342900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led the campaign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6629400" y="624852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3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04920" y="3429000"/>
            <a:ext cx="85341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did campaign to stop people being cruel to animals, but that is not the main thing he wanted to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3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04920" y="4665600"/>
            <a:ext cx="838188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born in Hul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270000" y="5504040"/>
            <a:ext cx="84168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help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04920" y="3733920"/>
            <a:ext cx="82296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e remember William Wilberforce because he led a long campaign which made slavery s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>
            <a:hlinkClick r:id="rId1" action="ppaction://hlinksldjump"/>
          </p:cNvPr>
          <p:cNvSpPr/>
          <p:nvPr/>
        </p:nvSpPr>
        <p:spPr>
          <a:xfrm>
            <a:off x="0" y="0"/>
            <a:ext cx="8991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57240">
            <a:solidFill>
              <a:srgbClr val="00b2a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forget, always click inside the answer box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wilberforce signature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352680" y="4038480"/>
            <a:ext cx="2505240" cy="606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>
            <a:hlinkClick r:id="" action="ppaction://hlinkshowjump?jump=nextslide"/>
          </p:cNvPr>
          <p:cNvSpPr/>
          <p:nvPr/>
        </p:nvSpPr>
        <p:spPr>
          <a:xfrm>
            <a:off x="3352680" y="47242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3"/>
          <a:stretch/>
        </p:blipFill>
        <p:spPr>
          <a:xfrm rot="1847400">
            <a:off x="1050480" y="2792520"/>
            <a:ext cx="1536840" cy="237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-828720" y="65260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ilberforce was born in Hull but that is not the main reason we remember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3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>
            <a:hlinkClick r:id="rId2" action="ppaction://hlinksldjump"/>
          </p:cNvPr>
          <p:cNvSpPr/>
          <p:nvPr/>
        </p:nvSpPr>
        <p:spPr>
          <a:xfrm>
            <a:off x="685800" y="518148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Because he was born in Hu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>
            <a:hlinkClick r:id="rId3" action="ppaction://hlinksldjump"/>
          </p:cNvPr>
          <p:cNvSpPr/>
          <p:nvPr/>
        </p:nvSpPr>
        <p:spPr>
          <a:xfrm>
            <a:off x="685800" y="419112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a) Because he was born in this ho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4"/>
          <p:cNvSpPr/>
          <p:nvPr/>
        </p:nvSpPr>
        <p:spPr>
          <a:xfrm>
            <a:off x="-900000" y="65041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09480" y="3962520"/>
            <a:ext cx="80773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here over 200 years ago. He lived here until he was nine years 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3000" fill="hold"/>
                                        <p:tgtEl>
                                          <p:spTgt spid="6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-828720" y="64897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609480" y="3962520"/>
            <a:ext cx="807732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in Hull but there is another reas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>
            <a:hlinkClick r:id="rId2" action="ppaction://hlinksldjump"/>
          </p:cNvPr>
          <p:cNvSpPr/>
          <p:nvPr/>
        </p:nvSpPr>
        <p:spPr>
          <a:xfrm>
            <a:off x="6781680" y="6248520"/>
            <a:ext cx="221004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>
            <a:hlinkClick r:id="rId1" action="ppaction://hlinksldjump"/>
          </p:cNvPr>
          <p:cNvSpPr/>
          <p:nvPr/>
        </p:nvSpPr>
        <p:spPr>
          <a:xfrm>
            <a:off x="304920" y="4525920"/>
            <a:ext cx="84582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good at giving speech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>
            <a:hlinkClick r:id="rId2" action="ppaction://hlinksldjump"/>
          </p:cNvPr>
          <p:cNvSpPr/>
          <p:nvPr/>
        </p:nvSpPr>
        <p:spPr>
          <a:xfrm>
            <a:off x="345960" y="5334120"/>
            <a:ext cx="841716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wanted to help peo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ww1"/>
          <p:cNvPicPr/>
          <p:nvPr/>
        </p:nvPicPr>
        <p:blipFill>
          <a:blip r:embed="rId3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thought he could help lots of people if he was a Member of Parlia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3000" fill="hold"/>
                                        <p:tgtEl>
                                          <p:spTgt spid="8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as very good at giving speeches, but that is not the rea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>
            <a:hlinkClick r:id="rId2" action="ppaction://hlinksldjump"/>
          </p:cNvPr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>
            <a:hlinkClick r:id="rId1" action="ppaction://hlinksldjump"/>
          </p:cNvPr>
          <p:cNvSpPr/>
          <p:nvPr/>
        </p:nvSpPr>
        <p:spPr>
          <a:xfrm>
            <a:off x="304920" y="4525920"/>
            <a:ext cx="822960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66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It tells us he liked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>
            <a:hlinkClick r:id="rId2" action="ppaction://hlinksldjump"/>
          </p:cNvPr>
          <p:cNvSpPr/>
          <p:nvPr/>
        </p:nvSpPr>
        <p:spPr>
          <a:xfrm>
            <a:off x="270000" y="5450040"/>
            <a:ext cx="826452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b) It tells us </a:t>
            </a:r>
            <a:r>
              <a:rPr b="0" lang="en-US" sz="3200" spc="-1" strike="noStrike">
                <a:solidFill>
                  <a:srgbClr val="ff6666"/>
                </a:solidFill>
                <a:latin typeface="ヒラギノ角ゴ Pro W3"/>
              </a:rPr>
              <a:t>r</a:t>
            </a: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eligion was important to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Wilberforce Family Bible2"/>
          <p:cNvPicPr/>
          <p:nvPr/>
        </p:nvPicPr>
        <p:blipFill>
          <a:blip r:embed="rId3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20:10:33Z</dcterms:created>
  <dc:creator>Nick Cass</dc:creator>
  <dc:description/>
  <dc:language>en-US</dc:language>
  <cp:lastModifiedBy>Bartley, Izzy</cp:lastModifiedBy>
  <dcterms:modified xsi:type="dcterms:W3CDTF">2018-03-28T10:14:20Z</dcterms:modified>
  <cp:revision>22</cp:revision>
  <dc:subject/>
  <dc:title>Why Do We Remember William Wilberforce?</dc:title>
</cp:coreProperties>
</file>